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914-E9B2-4A06-900B-52AA015A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513-407F-4D06-9DBC-D59FC51C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E06-EC5A-47D1-A252-EB4AEAB5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C8F-1008-44FD-934D-4C8A4A1C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B53-E841-48A9-91A9-D6D63CCA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03E-C23B-43DC-8967-D31EA6F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A93-ED94-4BEE-891F-EB91AD8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4EB-C1A8-4BAE-AA23-1E1933E2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9DF-7A42-493A-A504-6CF3A831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6A0-66ED-465B-B866-1090DD5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2D2-FB61-46CF-936E-2C8C62EF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35A-64A4-42F6-AF9D-F075068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495-C673-487A-A115-DD753421D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304920"/>
            <a:ext cx="4724280" cy="71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ضلك طل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لي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لا تكو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نّي ب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رح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جودك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ثل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ليال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28600"/>
            <a:ext cx="4876560" cy="62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مح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نحب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بلا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خلي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يا رب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ت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حب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ن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42:40Z</dcterms:created>
  <dc:creator>Pere</dc:creator>
  <dc:description/>
  <dc:language>en-US</dc:language>
  <cp:lastModifiedBy>lab</cp:lastModifiedBy>
  <dcterms:modified xsi:type="dcterms:W3CDTF">2006-12-10T08:56:11Z</dcterms:modified>
  <cp:revision>6</cp:revision>
  <dc:subject/>
  <dc:title>Slide 1</dc:title>
</cp:coreProperties>
</file>